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chimes.wav" ContentType="audio/x-wav"/>
  <Override PartName="/ppt/media/image1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C4D-EDF1-43C6-B92D-D1055D38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F32-9BBD-45F0-853B-1BC1CF31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03F-60BE-418C-B84B-B656FD24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765-D44F-491A-9EBC-9B1E41AD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78C-1981-4A3B-BE7F-79E76153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FA1-CED3-4792-9CB2-ED4D08A2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D39-3DC0-4311-9733-47F322FE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B73-839A-487B-B76D-7C19F819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877-52C5-4579-9D89-5FA512AC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948-F8E5-471D-88A1-5EBD3423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6A9-570D-4D51-BBB4-79E925A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033-FA24-4BBE-AEBD-DFDE9143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A0AB-CDA3-4499-8C5A-50CB06C478C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AE33-9E59-421B-A6FC-D972E37BA40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tt8.cn/cp.asp?page=102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88440" y="3139920"/>
            <a:ext cx="2979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题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溶液的形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九单元 溶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9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3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97000" y="565200"/>
            <a:ext cx="8296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240" indent="-30240">
              <a:lnSpc>
                <a:spcPct val="15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硫酸铜溶液、蔗糖溶液、食盐溶液中，溶质是什么？溶剂是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46200" y="2274840"/>
            <a:ext cx="223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硫酸铜溶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624120" y="2143080"/>
            <a:ext cx="144720" cy="654120"/>
          </a:xfrm>
          <a:custGeom>
            <a:avLst/>
            <a:gdLst>
              <a:gd name="textAreaLeft" fmla="*/ 92520 w 144720"/>
              <a:gd name="textAreaRight" fmla="*/ 145080 w 144720"/>
              <a:gd name="textAreaTop" fmla="*/ 20160 h 654120"/>
              <a:gd name="textAreaBottom" fmla="*/ 633960 h 6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1"/>
                  <a:pt x="10800" y="2162"/>
                </a:cubicBezTo>
                <a:lnTo>
                  <a:pt x="10800" y="8638"/>
                </a:lnTo>
                <a:cubicBezTo>
                  <a:pt x="10800" y="9719"/>
                  <a:pt x="5400" y="10800"/>
                  <a:pt x="0" y="10800"/>
                </a:cubicBezTo>
                <a:cubicBezTo>
                  <a:pt x="5400" y="10800"/>
                  <a:pt x="10800" y="11881"/>
                  <a:pt x="10800" y="12962"/>
                </a:cubicBezTo>
                <a:lnTo>
                  <a:pt x="10800" y="19438"/>
                </a:lnTo>
                <a:cubicBezTo>
                  <a:pt x="10800" y="20519"/>
                  <a:pt x="16200" y="21600"/>
                  <a:pt x="21600" y="21600"/>
                </a:cubicBezTo>
              </a:path>
            </a:pathLst>
          </a:custGeom>
          <a:noFill/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51280" y="1987560"/>
            <a:ext cx="42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溶质：硫酸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851280" y="2492280"/>
            <a:ext cx="237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溶剂：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906560" y="3427560"/>
            <a:ext cx="21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蔗糖溶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706920" y="3343320"/>
            <a:ext cx="83880" cy="588960"/>
          </a:xfrm>
          <a:custGeom>
            <a:avLst/>
            <a:gdLst>
              <a:gd name="textAreaLeft" fmla="*/ 53640 w 83880"/>
              <a:gd name="textAreaRight" fmla="*/ 84240 w 83880"/>
              <a:gd name="textAreaTop" fmla="*/ 12960 h 588960"/>
              <a:gd name="textAreaBottom" fmla="*/ 576000 h 5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7"/>
                  <a:pt x="10800" y="1533"/>
                </a:cubicBezTo>
                <a:lnTo>
                  <a:pt x="10800" y="9267"/>
                </a:lnTo>
                <a:cubicBezTo>
                  <a:pt x="10800" y="10034"/>
                  <a:pt x="5400" y="10800"/>
                  <a:pt x="0" y="10800"/>
                </a:cubicBezTo>
                <a:cubicBezTo>
                  <a:pt x="5400" y="10800"/>
                  <a:pt x="10800" y="11567"/>
                  <a:pt x="10800" y="12333"/>
                </a:cubicBezTo>
                <a:lnTo>
                  <a:pt x="10800" y="20067"/>
                </a:lnTo>
                <a:cubicBezTo>
                  <a:pt x="10800" y="20834"/>
                  <a:pt x="16200" y="21600"/>
                  <a:pt x="21600" y="21600"/>
                </a:cubicBezTo>
              </a:path>
            </a:pathLst>
          </a:custGeom>
          <a:noFill/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780000" y="3138480"/>
            <a:ext cx="27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溶质：蔗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780000" y="3643200"/>
            <a:ext cx="237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溶剂：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1906560" y="450684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食盐溶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3706920" y="4468680"/>
            <a:ext cx="75960" cy="658800"/>
          </a:xfrm>
          <a:custGeom>
            <a:avLst/>
            <a:gdLst>
              <a:gd name="textAreaLeft" fmla="*/ 48600 w 75960"/>
              <a:gd name="textAreaRight" fmla="*/ 76320 w 75960"/>
              <a:gd name="textAreaTop" fmla="*/ 11520 h 658800"/>
              <a:gd name="textAreaBottom" fmla="*/ 64728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0"/>
                  <a:pt x="10800" y="1220"/>
                </a:cubicBezTo>
                <a:lnTo>
                  <a:pt x="10800" y="9580"/>
                </a:lnTo>
                <a:cubicBezTo>
                  <a:pt x="10800" y="10190"/>
                  <a:pt x="5400" y="10800"/>
                  <a:pt x="0" y="10800"/>
                </a:cubicBezTo>
                <a:cubicBezTo>
                  <a:pt x="5400" y="10800"/>
                  <a:pt x="10800" y="11410"/>
                  <a:pt x="10800" y="12020"/>
                </a:cubicBezTo>
                <a:lnTo>
                  <a:pt x="10800" y="20380"/>
                </a:lnTo>
                <a:cubicBezTo>
                  <a:pt x="10800" y="20990"/>
                  <a:pt x="16200" y="21600"/>
                  <a:pt x="21600" y="21600"/>
                </a:cubicBezTo>
              </a:path>
            </a:pathLst>
          </a:custGeom>
          <a:noFill/>
          <a:ln cap="sq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3780000" y="4290840"/>
            <a:ext cx="27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溶质：食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780000" y="4795920"/>
            <a:ext cx="237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溶剂：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1254240" y="5743440"/>
            <a:ext cx="693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水能溶解很多物质，是一种最常用的溶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01378"/>
          <p:cNvSpPr/>
          <p:nvPr/>
        </p:nvSpPr>
        <p:spPr>
          <a:xfrm>
            <a:off x="380880" y="1909800"/>
            <a:ext cx="84344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两支试管中各加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m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3m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水，分别加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小粒碘或高锰酸钾；另取两支试管各加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m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3m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汽油，再分别加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小粒碘或高锰酸钾。振荡，观察现象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01379" descr="pic_21301"/>
          <p:cNvPicPr/>
          <p:nvPr/>
        </p:nvPicPr>
        <p:blipFill>
          <a:blip r:embed="rId1"/>
          <a:srcRect l="0" t="0" r="-581" b="51029"/>
          <a:stretch/>
        </p:blipFill>
        <p:spPr>
          <a:xfrm>
            <a:off x="1008000" y="4056120"/>
            <a:ext cx="7317000" cy="242100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01380"/>
          <p:cNvSpPr/>
          <p:nvPr/>
        </p:nvSpPr>
        <p:spPr>
          <a:xfrm>
            <a:off x="1239840" y="4529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01408"/>
          <p:cNvSpPr/>
          <p:nvPr/>
        </p:nvSpPr>
        <p:spPr>
          <a:xfrm>
            <a:off x="1782360" y="1319040"/>
            <a:ext cx="442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【实验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9-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】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不同的溶质在不同的溶剂中的溶解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占位符 117762"/>
          <p:cNvSpPr/>
          <p:nvPr/>
        </p:nvSpPr>
        <p:spPr>
          <a:xfrm>
            <a:off x="258840" y="644400"/>
            <a:ext cx="8229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560" indent="-25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水能溶解所有的物质吗？除了水还有其他的溶剂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954000" y="2705040"/>
          <a:ext cx="7472520" cy="3578400"/>
        </p:xfrm>
        <a:graphic>
          <a:graphicData uri="http://schemas.openxmlformats.org/drawingml/2006/table">
            <a:tbl>
              <a:tblPr/>
              <a:tblGrid>
                <a:gridCol w="2305080"/>
                <a:gridCol w="1530360"/>
                <a:gridCol w="3637080"/>
              </a:tblGrid>
              <a:tr h="795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溶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溶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现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712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cc33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汽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cc33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锰酸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cc33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锰酸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汽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9"/>
          <p:cNvSpPr/>
          <p:nvPr/>
        </p:nvSpPr>
        <p:spPr>
          <a:xfrm>
            <a:off x="5504040" y="36320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几乎不溶于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5308560" y="4282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溶解，溶液棕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5338800" y="49579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溶解，溶液紫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5676840" y="5665680"/>
            <a:ext cx="19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溶于汽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ic_99607"/>
          <p:cNvPicPr/>
          <p:nvPr/>
        </p:nvPicPr>
        <p:blipFill>
          <a:blip r:embed="rId1"/>
          <a:srcRect l="0" t="60614" r="0" b="0"/>
          <a:stretch/>
        </p:blipFill>
        <p:spPr>
          <a:xfrm>
            <a:off x="1143000" y="550800"/>
            <a:ext cx="7396200" cy="212904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869760"/>
            <a:ext cx="519732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通过上述实验你发现了什么？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00000" y="2565360"/>
            <a:ext cx="67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相同的溶质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不同的溶剂中溶解性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不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900000" y="3557520"/>
            <a:ext cx="72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不同的溶质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相同的溶剂中溶解性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不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71440" y="625320"/>
            <a:ext cx="867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【实验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9-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】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水和乙醇能够互溶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8000" y="4437000"/>
          <a:ext cx="8856720" cy="1224000"/>
        </p:xfrm>
        <a:graphic>
          <a:graphicData uri="http://schemas.openxmlformats.org/drawingml/2006/table">
            <a:tbl>
              <a:tblPr/>
              <a:tblGrid>
                <a:gridCol w="828720"/>
                <a:gridCol w="847800"/>
                <a:gridCol w="1736640"/>
                <a:gridCol w="1717560"/>
                <a:gridCol w="1787760"/>
                <a:gridCol w="1938240"/>
              </a:tblGrid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溶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溶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振荡前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振荡后现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静置后现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论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乙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35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26"/>
          <p:cNvSpPr/>
          <p:nvPr/>
        </p:nvSpPr>
        <p:spPr>
          <a:xfrm>
            <a:off x="2195640" y="5081760"/>
            <a:ext cx="122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分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3937320" y="5127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混合均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5870160" y="513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不分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7023240" y="5076720"/>
            <a:ext cx="195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乙醇与水互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0" descr=""/>
          <p:cNvPicPr/>
          <p:nvPr/>
        </p:nvPicPr>
        <p:blipFill>
          <a:blip r:embed="rId1"/>
          <a:stretch/>
        </p:blipFill>
        <p:spPr>
          <a:xfrm>
            <a:off x="1955880" y="1120680"/>
            <a:ext cx="5256000" cy="3167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1"/>
          <p:cNvSpPr/>
          <p:nvPr/>
        </p:nvSpPr>
        <p:spPr>
          <a:xfrm>
            <a:off x="1974960" y="5880240"/>
            <a:ext cx="573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注意：乙醇能与水以任意比例互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6000" y="71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Times New Roman"/>
                <a:ea typeface="黑体"/>
              </a:rPr>
              <a:t> 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例题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在医院接受静脉注射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或滴注时，常用到生理盐水即氯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化钠注射液。如图是某药业公司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生产的氯化钠注射液标签上的部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分文字。请分析标签后回答：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该注射液里的溶质是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溶剂是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5960" indent="-1659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常温下，一瓶合格的氯化钠注射液密封放置一段时间后，是否会出现浑浊？为什么？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567400" y="879480"/>
            <a:ext cx="2881440" cy="251928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氯化钠注射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规格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0ml 0.9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前发现溶液中有絮状物、瓶身细微破裂等均不可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贮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密封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079880" y="37958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氯化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0080" y="376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919080" y="5595840"/>
            <a:ext cx="11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会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996920" y="5595840"/>
            <a:ext cx="55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因为它是溶液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密封条件下是稳定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977400" y="684360"/>
            <a:ext cx="25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溶液中溶质与溶剂的判定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06280" y="1638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固体、气体溶于液体时：固体、气体为溶质，液体为溶剂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90440" y="2327400"/>
            <a:ext cx="820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液体溶于液体时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无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量多的为溶剂，量少的为溶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水是溶剂；其他为溶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16000" y="32558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常不指明溶剂的溶液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溶剂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90440" y="392760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名称：一般溶质在前，溶剂在后；如碘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85760" y="45417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物质溶解发生化学反应时，生成的新物质时溶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25280" y="5221440"/>
            <a:ext cx="88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说明】水是最常见的溶剂，酒精、汽油等物质也是常见的溶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69800" y="850680"/>
            <a:ext cx="77724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指出下列溶液中溶质、溶剂各是什么？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溶质           溶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）硫酸铜溶液 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）稀硫酸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75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％的医用酒精 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）油脂溶解在汽油里 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）白磷的二硫化碳溶液 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）盐酸 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溶于水的溶液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文本框 162819"/>
          <p:cNvSpPr/>
          <p:nvPr/>
        </p:nvSpPr>
        <p:spPr>
          <a:xfrm>
            <a:off x="4668840" y="1838160"/>
            <a:ext cx="144792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uSO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62820"/>
          <p:cNvSpPr/>
          <p:nvPr/>
        </p:nvSpPr>
        <p:spPr>
          <a:xfrm>
            <a:off x="6465960" y="183816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2821"/>
          <p:cNvSpPr/>
          <p:nvPr/>
        </p:nvSpPr>
        <p:spPr>
          <a:xfrm>
            <a:off x="4668840" y="2405160"/>
            <a:ext cx="144792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O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62822"/>
          <p:cNvSpPr/>
          <p:nvPr/>
        </p:nvSpPr>
        <p:spPr>
          <a:xfrm>
            <a:off x="6465960" y="241128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62823"/>
          <p:cNvSpPr/>
          <p:nvPr/>
        </p:nvSpPr>
        <p:spPr>
          <a:xfrm>
            <a:off x="4668840" y="2973240"/>
            <a:ext cx="175248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62824"/>
          <p:cNvSpPr/>
          <p:nvPr/>
        </p:nvSpPr>
        <p:spPr>
          <a:xfrm>
            <a:off x="6465960" y="29844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2825"/>
          <p:cNvSpPr/>
          <p:nvPr/>
        </p:nvSpPr>
        <p:spPr>
          <a:xfrm>
            <a:off x="4668840" y="354024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油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2826"/>
          <p:cNvSpPr/>
          <p:nvPr/>
        </p:nvSpPr>
        <p:spPr>
          <a:xfrm>
            <a:off x="6465960" y="3556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汽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62827"/>
          <p:cNvSpPr/>
          <p:nvPr/>
        </p:nvSpPr>
        <p:spPr>
          <a:xfrm>
            <a:off x="4668840" y="41068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白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62828"/>
          <p:cNvSpPr/>
          <p:nvPr/>
        </p:nvSpPr>
        <p:spPr>
          <a:xfrm>
            <a:off x="6465960" y="4129200"/>
            <a:ext cx="190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二硫化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62829"/>
          <p:cNvSpPr/>
          <p:nvPr/>
        </p:nvSpPr>
        <p:spPr>
          <a:xfrm>
            <a:off x="4668840" y="467352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HC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62830"/>
          <p:cNvSpPr/>
          <p:nvPr/>
        </p:nvSpPr>
        <p:spPr>
          <a:xfrm>
            <a:off x="6465960" y="470232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62831"/>
          <p:cNvSpPr/>
          <p:nvPr/>
        </p:nvSpPr>
        <p:spPr>
          <a:xfrm>
            <a:off x="4668840" y="5240160"/>
            <a:ext cx="144792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62832"/>
          <p:cNvSpPr/>
          <p:nvPr/>
        </p:nvSpPr>
        <p:spPr>
          <a:xfrm>
            <a:off x="6465960" y="527544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065240" y="2017800"/>
            <a:ext cx="36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79360" y="8064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溶液有什么用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6156360" y="592200"/>
            <a:ext cx="2394000" cy="5614200"/>
            <a:chOff x="6156360" y="592200"/>
            <a:chExt cx="2394000" cy="5614200"/>
          </a:xfrm>
        </p:grpSpPr>
        <p:grpSp>
          <p:nvGrpSpPr>
            <p:cNvPr id="210" name="Group 5"/>
            <p:cNvGrpSpPr/>
            <p:nvPr/>
          </p:nvGrpSpPr>
          <p:grpSpPr>
            <a:xfrm>
              <a:off x="6156360" y="2061720"/>
              <a:ext cx="2394000" cy="4144680"/>
              <a:chOff x="6156360" y="2061720"/>
              <a:chExt cx="2394000" cy="4144680"/>
            </a:xfrm>
          </p:grpSpPr>
          <p:pic>
            <p:nvPicPr>
              <p:cNvPr id="211" name="Picture 6" descr="c39"/>
              <p:cNvPicPr/>
              <p:nvPr/>
            </p:nvPicPr>
            <p:blipFill>
              <a:blip r:embed="rId1"/>
              <a:stretch/>
            </p:blipFill>
            <p:spPr>
              <a:xfrm>
                <a:off x="6156360" y="3610800"/>
                <a:ext cx="2394000" cy="259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7" descr="1285200591685856"/>
              <p:cNvPicPr/>
              <p:nvPr/>
            </p:nvPicPr>
            <p:blipFill>
              <a:blip r:embed="rId2"/>
              <a:stretch/>
            </p:blipFill>
            <p:spPr>
              <a:xfrm>
                <a:off x="6156360" y="2061720"/>
                <a:ext cx="2394000" cy="1591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3" name="Group 8"/>
            <p:cNvGrpSpPr/>
            <p:nvPr/>
          </p:nvGrpSpPr>
          <p:grpSpPr>
            <a:xfrm>
              <a:off x="6323760" y="592200"/>
              <a:ext cx="1886400" cy="1409760"/>
              <a:chOff x="6323760" y="592200"/>
              <a:chExt cx="1886400" cy="1409760"/>
            </a:xfrm>
          </p:grpSpPr>
          <p:sp>
            <p:nvSpPr>
              <p:cNvPr id="214" name="Text Box 9"/>
              <p:cNvSpPr/>
              <p:nvPr/>
            </p:nvSpPr>
            <p:spPr>
              <a:xfrm>
                <a:off x="6323760" y="592200"/>
                <a:ext cx="188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医药用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10"/>
              <p:cNvSpPr/>
              <p:nvPr/>
            </p:nvSpPr>
            <p:spPr>
              <a:xfrm>
                <a:off x="7140600" y="971640"/>
                <a:ext cx="372240" cy="1030320"/>
              </a:xfrm>
              <a:prstGeom prst="upArrow">
                <a:avLst>
                  <a:gd name="adj1" fmla="val 50000"/>
                  <a:gd name="adj2" fmla="val 68979"/>
                </a:avLst>
              </a:prstGeom>
              <a:solidFill>
                <a:srgbClr val="5b9b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11"/>
          <p:cNvGrpSpPr/>
          <p:nvPr/>
        </p:nvGrpSpPr>
        <p:grpSpPr>
          <a:xfrm>
            <a:off x="554040" y="1754280"/>
            <a:ext cx="2580840" cy="3390840"/>
            <a:chOff x="554040" y="1754280"/>
            <a:chExt cx="2580840" cy="3390840"/>
          </a:xfrm>
        </p:grpSpPr>
        <p:sp>
          <p:nvSpPr>
            <p:cNvPr id="217" name="AutoShape 12"/>
            <p:cNvSpPr/>
            <p:nvPr/>
          </p:nvSpPr>
          <p:spPr>
            <a:xfrm rot="5400000">
              <a:off x="1413360" y="3855960"/>
              <a:ext cx="852120" cy="303480"/>
            </a:xfrm>
            <a:prstGeom prst="rightArrow">
              <a:avLst>
                <a:gd name="adj1" fmla="val 50000"/>
                <a:gd name="adj2" fmla="val 7024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554040" y="4319640"/>
              <a:ext cx="237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无土栽培的植物在营养液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4" descr="slide0088_image119"/>
            <p:cNvPicPr/>
            <p:nvPr/>
          </p:nvPicPr>
          <p:blipFill>
            <a:blip r:embed="rId3"/>
            <a:stretch/>
          </p:blipFill>
          <p:spPr>
            <a:xfrm>
              <a:off x="602280" y="1754280"/>
              <a:ext cx="1301760" cy="177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5" descr="200596_110307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894680" y="1754280"/>
              <a:ext cx="1240200" cy="177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16" descr="未标题-1"/>
          <p:cNvPicPr/>
          <p:nvPr/>
        </p:nvPicPr>
        <p:blipFill>
          <a:blip r:embed="rId6"/>
          <a:stretch/>
        </p:blipFill>
        <p:spPr>
          <a:xfrm>
            <a:off x="3352680" y="1806480"/>
            <a:ext cx="2635200" cy="28098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 rot="5400000">
            <a:off x="4219560" y="4964040"/>
            <a:ext cx="852480" cy="303120"/>
          </a:xfrm>
          <a:prstGeom prst="rightArrow">
            <a:avLst>
              <a:gd name="adj1" fmla="val 50000"/>
              <a:gd name="adj2" fmla="val 74475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530520" y="54673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化学实验室中常用的溶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2306520" y="3454560"/>
            <a:ext cx="5256360" cy="28382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420840" y="1292400"/>
            <a:ext cx="7921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将三个烧杯盛等量冷水，用温度计测量冷水的温度，向三个烧杯中分别加入等量氯化钠、硝酸铵、氢氧化钠固体，搅拌，待固体溶解后，用温度计测量三种溶液的温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6147"/>
          <p:cNvGrpSpPr/>
          <p:nvPr/>
        </p:nvGrpSpPr>
        <p:grpSpPr>
          <a:xfrm>
            <a:off x="230040" y="379440"/>
            <a:ext cx="4152600" cy="806760"/>
            <a:chOff x="230040" y="379440"/>
            <a:chExt cx="4152600" cy="806760"/>
          </a:xfrm>
        </p:grpSpPr>
        <p:sp>
          <p:nvSpPr>
            <p:cNvPr id="228" name="矩形 7"/>
            <p:cNvSpPr/>
            <p:nvPr/>
          </p:nvSpPr>
          <p:spPr>
            <a:xfrm>
              <a:off x="789840" y="379440"/>
              <a:ext cx="1672200" cy="7596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16"/>
            <p:cNvSpPr/>
            <p:nvPr/>
          </p:nvSpPr>
          <p:spPr>
            <a:xfrm>
              <a:off x="230040" y="666720"/>
              <a:ext cx="524160" cy="4809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17"/>
            <p:cNvSpPr/>
            <p:nvPr/>
          </p:nvSpPr>
          <p:spPr>
            <a:xfrm>
              <a:off x="591840" y="61596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6151"/>
            <p:cNvSpPr/>
            <p:nvPr/>
          </p:nvSpPr>
          <p:spPr>
            <a:xfrm>
              <a:off x="1641600" y="6526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溶解时的吸热或者放热现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6152"/>
            <p:cNvSpPr/>
            <p:nvPr/>
          </p:nvSpPr>
          <p:spPr>
            <a:xfrm>
              <a:off x="23004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rologue04_02"/>
          <p:cNvPicPr/>
          <p:nvPr/>
        </p:nvPicPr>
        <p:blipFill>
          <a:blip r:embed="rId1"/>
          <a:stretch/>
        </p:blipFill>
        <p:spPr>
          <a:xfrm>
            <a:off x="3851280" y="2917800"/>
            <a:ext cx="4816440" cy="341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ourse02_01"/>
          <p:cNvPicPr/>
          <p:nvPr/>
        </p:nvPicPr>
        <p:blipFill>
          <a:blip r:embed="rId2"/>
          <a:stretch/>
        </p:blipFill>
        <p:spPr>
          <a:xfrm>
            <a:off x="233280" y="585720"/>
            <a:ext cx="3960720" cy="3909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prologue04_03"/>
          <p:cNvPicPr/>
          <p:nvPr/>
        </p:nvPicPr>
        <p:blipFill>
          <a:blip r:embed="rId3"/>
          <a:stretch/>
        </p:blipFill>
        <p:spPr>
          <a:xfrm>
            <a:off x="2627280" y="1989000"/>
            <a:ext cx="2792520" cy="3086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4286160" y="717480"/>
            <a:ext cx="43401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生活中常见的液体，它们是纯净物还是混合物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541440" y="1843200"/>
          <a:ext cx="8064360" cy="4203720"/>
        </p:xfrm>
        <a:graphic>
          <a:graphicData uri="http://schemas.openxmlformats.org/drawingml/2006/table">
            <a:tbl>
              <a:tblPr/>
              <a:tblGrid>
                <a:gridCol w="1728720"/>
                <a:gridCol w="2486160"/>
                <a:gridCol w="1746360"/>
                <a:gridCol w="2103120"/>
              </a:tblGrid>
              <a:tr h="1679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水中加入的溶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aC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等大多物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H</a:t>
                      </a:r>
                      <a:r>
                        <a:rPr b="0" lang="en-US" sz="2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O</a:t>
                      </a:r>
                      <a:r>
                        <a:rPr b="0" lang="en-US" sz="2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a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O</a:t>
                      </a:r>
                      <a:r>
                        <a:rPr b="0" lang="en-US" sz="2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1494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溶解前后温度变化情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温度基本不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温度降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温度升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归纳结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3333cc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有的物质溶解时溶液温度升高；   有的物质溶解时溶液温度降低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"/>
          <p:cNvSpPr/>
          <p:nvPr/>
        </p:nvSpPr>
        <p:spPr>
          <a:xfrm>
            <a:off x="979560" y="1050840"/>
            <a:ext cx="732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物质在溶解过程中通常会伴随着热量的变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488880" y="1604880"/>
            <a:ext cx="8150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两支试管中各加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5m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水和几滴植物油，观察试管中的液体是否分层。向其中一支试管中滴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4~5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滴洗涤剂。用胶塞分别塞紧试管，振荡，观察现象。静置几分钟，再观察现象。把两支试管内的液体倒掉，并用水冲洗试管，比较这两支试管的内壁是否干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147"/>
          <p:cNvGrpSpPr/>
          <p:nvPr/>
        </p:nvGrpSpPr>
        <p:grpSpPr>
          <a:xfrm>
            <a:off x="230040" y="379440"/>
            <a:ext cx="2232000" cy="806760"/>
            <a:chOff x="230040" y="379440"/>
            <a:chExt cx="2232000" cy="806760"/>
          </a:xfrm>
        </p:grpSpPr>
        <p:sp>
          <p:nvSpPr>
            <p:cNvPr id="239" name="矩形 7"/>
            <p:cNvSpPr/>
            <p:nvPr/>
          </p:nvSpPr>
          <p:spPr>
            <a:xfrm>
              <a:off x="789840" y="379440"/>
              <a:ext cx="167220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16"/>
            <p:cNvSpPr/>
            <p:nvPr/>
          </p:nvSpPr>
          <p:spPr>
            <a:xfrm>
              <a:off x="230040" y="66708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7"/>
            <p:cNvSpPr/>
            <p:nvPr/>
          </p:nvSpPr>
          <p:spPr>
            <a:xfrm>
              <a:off x="591840" y="6163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6151"/>
            <p:cNvSpPr/>
            <p:nvPr/>
          </p:nvSpPr>
          <p:spPr>
            <a:xfrm>
              <a:off x="1072800" y="653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乳化现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6152"/>
            <p:cNvSpPr/>
            <p:nvPr/>
          </p:nvSpPr>
          <p:spPr>
            <a:xfrm>
              <a:off x="23004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142920" y="1860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466560" y="1631880"/>
            <a:ext cx="5256000" cy="1586160"/>
            <a:chOff x="466560" y="1631880"/>
            <a:chExt cx="5256000" cy="1586160"/>
          </a:xfrm>
        </p:grpSpPr>
        <p:pic>
          <p:nvPicPr>
            <p:cNvPr id="247" name="Picture 6" descr=""/>
            <p:cNvPicPr/>
            <p:nvPr/>
          </p:nvPicPr>
          <p:blipFill>
            <a:blip r:embed="rId1"/>
            <a:stretch/>
          </p:blipFill>
          <p:spPr>
            <a:xfrm>
              <a:off x="466560" y="1678680"/>
              <a:ext cx="1121760" cy="153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7" descr=""/>
            <p:cNvPicPr/>
            <p:nvPr/>
          </p:nvPicPr>
          <p:blipFill>
            <a:blip r:embed="rId2"/>
            <a:stretch/>
          </p:blipFill>
          <p:spPr>
            <a:xfrm>
              <a:off x="2548440" y="1631880"/>
              <a:ext cx="1174680" cy="15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8" descr=""/>
            <p:cNvPicPr/>
            <p:nvPr/>
          </p:nvPicPr>
          <p:blipFill>
            <a:blip r:embed="rId3"/>
            <a:stretch/>
          </p:blipFill>
          <p:spPr>
            <a:xfrm>
              <a:off x="4629600" y="1678680"/>
              <a:ext cx="1092960" cy="153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9"/>
            <p:cNvSpPr/>
            <p:nvPr/>
          </p:nvSpPr>
          <p:spPr>
            <a:xfrm>
              <a:off x="1663920" y="2238480"/>
              <a:ext cx="936000" cy="186120"/>
            </a:xfrm>
            <a:prstGeom prst="rightArrow">
              <a:avLst>
                <a:gd name="adj1" fmla="val 50000"/>
                <a:gd name="adj2" fmla="val 125423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3849480" y="2238480"/>
              <a:ext cx="831600" cy="186120"/>
            </a:xfrm>
            <a:prstGeom prst="rightArrow">
              <a:avLst>
                <a:gd name="adj1" fmla="val 50000"/>
                <a:gd name="adj2" fmla="val 111433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11"/>
          <p:cNvSpPr/>
          <p:nvPr/>
        </p:nvSpPr>
        <p:spPr>
          <a:xfrm>
            <a:off x="2523960" y="3308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无洗涤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2"/>
          <p:cNvGrpSpPr/>
          <p:nvPr/>
        </p:nvGrpSpPr>
        <p:grpSpPr>
          <a:xfrm>
            <a:off x="466560" y="3765600"/>
            <a:ext cx="5256000" cy="1584360"/>
            <a:chOff x="466560" y="3765600"/>
            <a:chExt cx="5256000" cy="1584360"/>
          </a:xfrm>
        </p:grpSpPr>
        <p:pic>
          <p:nvPicPr>
            <p:cNvPr id="254" name="Picture 13" descr=""/>
            <p:cNvPicPr/>
            <p:nvPr/>
          </p:nvPicPr>
          <p:blipFill>
            <a:blip r:embed="rId4"/>
            <a:stretch/>
          </p:blipFill>
          <p:spPr>
            <a:xfrm>
              <a:off x="466560" y="3814560"/>
              <a:ext cx="950760" cy="15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4" descr=""/>
            <p:cNvPicPr/>
            <p:nvPr/>
          </p:nvPicPr>
          <p:blipFill>
            <a:blip r:embed="rId5"/>
            <a:stretch/>
          </p:blipFill>
          <p:spPr>
            <a:xfrm>
              <a:off x="2612880" y="3765600"/>
              <a:ext cx="94572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5" descr=""/>
            <p:cNvPicPr/>
            <p:nvPr/>
          </p:nvPicPr>
          <p:blipFill>
            <a:blip r:embed="rId6"/>
            <a:stretch/>
          </p:blipFill>
          <p:spPr>
            <a:xfrm>
              <a:off x="4757760" y="3765600"/>
              <a:ext cx="964800" cy="15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16"/>
            <p:cNvSpPr/>
            <p:nvPr/>
          </p:nvSpPr>
          <p:spPr>
            <a:xfrm>
              <a:off x="1486080" y="4359240"/>
              <a:ext cx="1019160" cy="147960"/>
            </a:xfrm>
            <a:prstGeom prst="rightArrow">
              <a:avLst>
                <a:gd name="adj1" fmla="val 50000"/>
                <a:gd name="adj2" fmla="val 17178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7"/>
            <p:cNvSpPr/>
            <p:nvPr/>
          </p:nvSpPr>
          <p:spPr>
            <a:xfrm>
              <a:off x="3738600" y="4309920"/>
              <a:ext cx="1019160" cy="197280"/>
            </a:xfrm>
            <a:prstGeom prst="rightArrow">
              <a:avLst>
                <a:gd name="adj1" fmla="val 50000"/>
                <a:gd name="adj2" fmla="val 128840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2371680" y="536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有洗涤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9"/>
          <p:cNvSpPr/>
          <p:nvPr/>
        </p:nvSpPr>
        <p:spPr>
          <a:xfrm>
            <a:off x="5952960" y="1631880"/>
            <a:ext cx="71640" cy="1584360"/>
          </a:xfrm>
          <a:custGeom>
            <a:avLst/>
            <a:gdLst>
              <a:gd name="textAreaLeft" fmla="*/ 0 w 71640"/>
              <a:gd name="textAreaRight" fmla="*/ 25920 w 71640"/>
              <a:gd name="textAreaTop" fmla="*/ 40680 h 1584360"/>
              <a:gd name="textAreaBottom" fmla="*/ 15436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4"/>
                  <a:pt x="10800" y="1787"/>
                </a:cubicBezTo>
                <a:lnTo>
                  <a:pt x="10800" y="9013"/>
                </a:lnTo>
                <a:cubicBezTo>
                  <a:pt x="10800" y="9907"/>
                  <a:pt x="16200" y="10800"/>
                  <a:pt x="21600" y="10800"/>
                </a:cubicBezTo>
                <a:cubicBezTo>
                  <a:pt x="16200" y="10800"/>
                  <a:pt x="10800" y="11694"/>
                  <a:pt x="10800" y="12587"/>
                </a:cubicBezTo>
                <a:lnTo>
                  <a:pt x="10800" y="19813"/>
                </a:lnTo>
                <a:cubicBezTo>
                  <a:pt x="10800" y="207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0"/>
          <p:cNvSpPr/>
          <p:nvPr/>
        </p:nvSpPr>
        <p:spPr>
          <a:xfrm>
            <a:off x="6105600" y="23176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6562800" y="1708200"/>
            <a:ext cx="225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乳浊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小液滴分散到液体里形成的混合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2"/>
          <p:cNvSpPr/>
          <p:nvPr/>
        </p:nvSpPr>
        <p:spPr>
          <a:xfrm>
            <a:off x="6029280" y="407052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3"/>
          <p:cNvSpPr/>
          <p:nvPr/>
        </p:nvSpPr>
        <p:spPr>
          <a:xfrm>
            <a:off x="5877000" y="346068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0680 h 1584360"/>
              <a:gd name="textAreaBottom" fmla="*/ 15436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4"/>
                  <a:pt x="10800" y="1787"/>
                </a:cubicBezTo>
                <a:lnTo>
                  <a:pt x="10800" y="9013"/>
                </a:lnTo>
                <a:cubicBezTo>
                  <a:pt x="10800" y="9907"/>
                  <a:pt x="16200" y="10800"/>
                  <a:pt x="21600" y="10800"/>
                </a:cubicBezTo>
                <a:cubicBezTo>
                  <a:pt x="16200" y="10800"/>
                  <a:pt x="10800" y="11694"/>
                  <a:pt x="10800" y="12587"/>
                </a:cubicBezTo>
                <a:lnTo>
                  <a:pt x="10800" y="19813"/>
                </a:lnTo>
                <a:cubicBezTo>
                  <a:pt x="10800" y="207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4"/>
          <p:cNvSpPr/>
          <p:nvPr/>
        </p:nvSpPr>
        <p:spPr>
          <a:xfrm>
            <a:off x="6845400" y="39355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乳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382680" y="1413000"/>
          <a:ext cx="8192880" cy="4451400"/>
        </p:xfrm>
        <a:graphic>
          <a:graphicData uri="http://schemas.openxmlformats.org/drawingml/2006/table">
            <a:tbl>
              <a:tblPr/>
              <a:tblGrid>
                <a:gridCol w="1860120"/>
                <a:gridCol w="1658880"/>
                <a:gridCol w="1563840"/>
                <a:gridCol w="1361880"/>
                <a:gridCol w="1748160"/>
              </a:tblGrid>
              <a:tr h="7650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试管内加入的物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现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把液体到掉后试管是否干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振荡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振荡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静置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和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d432d8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和植物油及洗涤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d432d8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31"/>
          <p:cNvSpPr/>
          <p:nvPr/>
        </p:nvSpPr>
        <p:spPr>
          <a:xfrm>
            <a:off x="2714760" y="358308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分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5648400" y="358308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分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2670120" y="485928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分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6986520" y="35830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不干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7192800" y="4859280"/>
            <a:ext cx="106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干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5504040" y="4859280"/>
            <a:ext cx="133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不分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4281480" y="48592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浑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4219560" y="3583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浑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80897"/>
          <p:cNvSpPr/>
          <p:nvPr/>
        </p:nvSpPr>
        <p:spPr>
          <a:xfrm>
            <a:off x="3828960" y="768240"/>
            <a:ext cx="1324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乳浊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80898"/>
          <p:cNvSpPr/>
          <p:nvPr/>
        </p:nvSpPr>
        <p:spPr>
          <a:xfrm>
            <a:off x="684360" y="1847880"/>
            <a:ext cx="77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定义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小液滴分散到液体里形成的混合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0899"/>
          <p:cNvSpPr/>
          <p:nvPr/>
        </p:nvSpPr>
        <p:spPr>
          <a:xfrm>
            <a:off x="684360" y="2712960"/>
            <a:ext cx="77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特征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不均一、不稳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0900"/>
          <p:cNvSpPr/>
          <p:nvPr/>
        </p:nvSpPr>
        <p:spPr>
          <a:xfrm>
            <a:off x="684360" y="3576600"/>
            <a:ext cx="77403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3.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乳化现象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洗涤剂有乳化的功能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它能使植物油分散成无数细小的液滴，而不聚集成大的油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560520" y="1870200"/>
            <a:ext cx="2689200" cy="38383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3738600" y="2421000"/>
            <a:ext cx="4938840" cy="1739880"/>
          </a:xfrm>
          <a:prstGeom prst="rect">
            <a:avLst/>
          </a:prstGeom>
          <a:noFill/>
          <a:ln w="5724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用洗涤剂去油污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洗涤剂是乳化剂，能使油分散成无数细小的液滴而不聚成大的油珠。这些小液滴能随水流走。达到洗净衣物的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486240" y="790560"/>
            <a:ext cx="23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生活小常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17600" y="130644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洗涤剂有什么功能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它的去污原理是什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436680" y="1720800"/>
            <a:ext cx="824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洗涤剂有乳化功能；洗涤剂的去污原理是：将油污分散成无数小液滴，然后随水流走。（这种现象称为洗涤剂的乳化作用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258840" y="63648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问题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17600" y="325584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修汽车的工人，当他的手上沾满油污时，他常用汽油洗去手上的油污。这说明汽油与洗涤剂一样能去油污，那么二者去油污的原理是否相同？若不同，汽油去油污的原理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546120" y="5222880"/>
            <a:ext cx="835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汽油去油污的原理是将油污溶解在汽油中，形成溶液，从而除去油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Oval 2"/>
          <p:cNvSpPr/>
          <p:nvPr/>
        </p:nvSpPr>
        <p:spPr>
          <a:xfrm>
            <a:off x="2629080" y="1341360"/>
            <a:ext cx="15238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3637080" y="2422440"/>
            <a:ext cx="160020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4956120" y="1298520"/>
            <a:ext cx="144792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469800" y="1341360"/>
            <a:ext cx="814320" cy="9144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333440" y="1630440"/>
            <a:ext cx="1295640" cy="152280"/>
          </a:xfrm>
          <a:prstGeom prst="leftArrow">
            <a:avLst>
              <a:gd name="adj1" fmla="val 50000"/>
              <a:gd name="adj2" fmla="val 21270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4197240" y="162072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7740720" y="1341360"/>
            <a:ext cx="914400" cy="9144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508800" y="162072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4070520" y="3862440"/>
            <a:ext cx="1008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1"/>
          <p:cNvSpPr/>
          <p:nvPr/>
        </p:nvSpPr>
        <p:spPr>
          <a:xfrm>
            <a:off x="4429080" y="325764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41440" y="155736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溶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477800" y="12700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被溶解的物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2703600" y="14763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一种或几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物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854520" y="129384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分散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5323320" y="15145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另一种 物 质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7991280" y="15573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溶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3857760" y="2536920"/>
            <a:ext cx="135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均一、稳定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的混合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200480" y="3976560"/>
            <a:ext cx="6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溶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2401560" y="4727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浊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5702400" y="4680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化现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4064400" y="451152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化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3538440" y="4943520"/>
            <a:ext cx="1905120" cy="152280"/>
          </a:xfrm>
          <a:prstGeom prst="rightArrow">
            <a:avLst>
              <a:gd name="adj1" fmla="val 50000"/>
              <a:gd name="adj2" fmla="val 31276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6578640" y="1270080"/>
            <a:ext cx="105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能溶解其他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物质的物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322200" y="67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、溶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468360" y="515952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、溶解时的吸热或放热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903240" y="5683320"/>
            <a:ext cx="75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物质在溶解过程中有的吸收热量，有的放出热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8"/>
          <p:cNvSpPr/>
          <p:nvPr/>
        </p:nvSpPr>
        <p:spPr>
          <a:xfrm rot="1662000">
            <a:off x="3204720" y="22777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9"/>
          <p:cNvSpPr/>
          <p:nvPr/>
        </p:nvSpPr>
        <p:spPr>
          <a:xfrm rot="8375400">
            <a:off x="4788720" y="220644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434880" y="41925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、乳化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99"/>
          <p:cNvSpPr/>
          <p:nvPr/>
        </p:nvSpPr>
        <p:spPr>
          <a:xfrm>
            <a:off x="704880" y="2147760"/>
            <a:ext cx="779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 indent="-9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认识溶解现象，知道溶液、溶剂、溶质等概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一些常见的乳化现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溶液是一类重要的物质，在生产和生活中有重要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3648240" y="1247760"/>
            <a:ext cx="19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09600" y="999000"/>
            <a:ext cx="8467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【实验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9-1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】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0m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水中加入一块蔗糖，用玻璃棒搅拌，观察现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044360" y="2059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11280" y="1916280"/>
            <a:ext cx="8137440" cy="417672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图9-2 蔗糖溶解（图）"/>
          <p:cNvPicPr/>
          <p:nvPr/>
        </p:nvPicPr>
        <p:blipFill>
          <a:blip r:embed="rId1"/>
          <a:stretch/>
        </p:blipFill>
        <p:spPr>
          <a:xfrm>
            <a:off x="1609560" y="2124000"/>
            <a:ext cx="6116760" cy="2460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111480" y="4311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4360" y="4941720"/>
          <a:ext cx="7991280" cy="1285920"/>
        </p:xfrm>
        <a:graphic>
          <a:graphicData uri="http://schemas.openxmlformats.org/drawingml/2006/table">
            <a:tbl>
              <a:tblPr/>
              <a:tblGrid>
                <a:gridCol w="1800000"/>
                <a:gridCol w="6191280"/>
              </a:tblGrid>
              <a:tr h="64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现  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>
                        <a:alpha val="50000"/>
                      </a:srgbClr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形成什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3" name="Rectangle 20"/>
          <p:cNvSpPr/>
          <p:nvPr/>
        </p:nvSpPr>
        <p:spPr>
          <a:xfrm>
            <a:off x="2771640" y="4998960"/>
            <a:ext cx="50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蔗糖颗粒逐渐减小最后消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2843280" y="5662440"/>
            <a:ext cx="53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形成了均一、稳定的溶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57120" y="76500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怎样解释食盐、蔗糖在水中的变化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39560" y="1512720"/>
            <a:ext cx="8234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蔗糖表面的分子在水分子的作用下，向水中扩散，在水中以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分子形式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分散在水分子的中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氯化钠在水分子的作用下，向水中扩散，在水中以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离子形式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zh-CN" sz="2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l</a:t>
            </a:r>
            <a:r>
              <a:rPr b="0" lang="zh-CN" sz="2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存在于水分子的中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55760" y="4456080"/>
            <a:ext cx="8080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只要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水分不被蒸发，温度不发生变化，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蔗糖或氯化钠与水不会分离，且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各组成部分相同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30200" y="1065240"/>
            <a:ext cx="38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蔗糖溶液中的分子运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859280" y="1039680"/>
            <a:ext cx="38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食盐溶液中的离子运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Host Control  8195" descr=""/>
          <p:cNvPicPr/>
          <p:nvPr/>
        </p:nvPicPr>
        <p:blipFill>
          <a:blip r:embed="rId1"/>
          <a:stretch/>
        </p:blipFill>
        <p:spPr>
          <a:xfrm>
            <a:off x="250920" y="1771560"/>
            <a:ext cx="4176720" cy="4059360"/>
          </a:xfrm>
          <a:prstGeom prst="rect">
            <a:avLst/>
          </a:prstGeom>
          <a:ln w="0">
            <a:noFill/>
          </a:ln>
        </p:spPr>
      </p:pic>
      <p:pic>
        <p:nvPicPr>
          <p:cNvPr id="95" name="Host Control  8196" descr=""/>
          <p:cNvPicPr/>
          <p:nvPr/>
        </p:nvPicPr>
        <p:blipFill>
          <a:blip r:embed="rId2"/>
          <a:stretch/>
        </p:blipFill>
        <p:spPr>
          <a:xfrm>
            <a:off x="4643280" y="1771560"/>
            <a:ext cx="4248360" cy="40640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730520" y="1395360"/>
            <a:ext cx="68371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一种或几种物质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散到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另一种物质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里，形成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均一的、稳定的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混合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28680" y="2440080"/>
            <a:ext cx="30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特征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79280" y="3125880"/>
            <a:ext cx="23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）均一性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79280" y="4076640"/>
            <a:ext cx="23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）稳定性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79280" y="5589720"/>
            <a:ext cx="230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）混合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47760" y="147780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定义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411280" y="3141720"/>
            <a:ext cx="638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是指溶液中各部分浓度、性质都相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2411280" y="3990960"/>
            <a:ext cx="6175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是指外界条件（温度、压强等）不变时，溶液长期放置不会分层，也不会析出固体或放出气体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6147"/>
          <p:cNvGrpSpPr/>
          <p:nvPr/>
        </p:nvGrpSpPr>
        <p:grpSpPr>
          <a:xfrm>
            <a:off x="230040" y="379440"/>
            <a:ext cx="2232000" cy="806760"/>
            <a:chOff x="230040" y="379440"/>
            <a:chExt cx="2232000" cy="806760"/>
          </a:xfrm>
        </p:grpSpPr>
        <p:sp>
          <p:nvSpPr>
            <p:cNvPr id="105" name="矩形 7"/>
            <p:cNvSpPr/>
            <p:nvPr/>
          </p:nvSpPr>
          <p:spPr>
            <a:xfrm>
              <a:off x="789840" y="379440"/>
              <a:ext cx="167220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16"/>
            <p:cNvSpPr/>
            <p:nvPr/>
          </p:nvSpPr>
          <p:spPr>
            <a:xfrm>
              <a:off x="230040" y="66708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7"/>
            <p:cNvSpPr/>
            <p:nvPr/>
          </p:nvSpPr>
          <p:spPr>
            <a:xfrm>
              <a:off x="591840" y="6163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6151"/>
            <p:cNvSpPr/>
            <p:nvPr/>
          </p:nvSpPr>
          <p:spPr>
            <a:xfrm>
              <a:off x="930600" y="653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溶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152"/>
            <p:cNvSpPr/>
            <p:nvPr/>
          </p:nvSpPr>
          <p:spPr>
            <a:xfrm>
              <a:off x="23004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hui3"/>
          <p:cNvPicPr/>
          <p:nvPr/>
        </p:nvPicPr>
        <p:blipFill>
          <a:blip r:embed="rId1"/>
          <a:srcRect l="0" t="12192" r="0" b="6773"/>
          <a:stretch/>
        </p:blipFill>
        <p:spPr>
          <a:xfrm>
            <a:off x="6319800" y="554040"/>
            <a:ext cx="2286000" cy="2443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466560" y="3986280"/>
            <a:ext cx="7777440" cy="4899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）溶剂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能溶解其他物质的物质叫做溶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21440" y="2251080"/>
            <a:ext cx="1203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黑体"/>
              </a:rPr>
              <a:t>蔗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 flipH="1">
            <a:off x="6084360" y="2565360"/>
            <a:ext cx="1008360" cy="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221440" y="2205000"/>
            <a:ext cx="10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021440" y="170028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黑体"/>
              </a:rPr>
              <a:t>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6084360" y="1989000"/>
            <a:ext cx="1008360" cy="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221440" y="1685880"/>
            <a:ext cx="10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H="1">
            <a:off x="5139720" y="1967040"/>
            <a:ext cx="88920" cy="533160"/>
          </a:xfrm>
          <a:custGeom>
            <a:avLst/>
            <a:gdLst>
              <a:gd name="textAreaLeft" fmla="*/ 0 w 88920"/>
              <a:gd name="textAreaRight" fmla="*/ 32040 w 88920"/>
              <a:gd name="textAreaTop" fmla="*/ 22680 h 533160"/>
              <a:gd name="textAreaBottom" fmla="*/ 510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81"/>
                  <a:pt x="10800" y="2962"/>
                </a:cubicBezTo>
                <a:lnTo>
                  <a:pt x="10800" y="6574"/>
                </a:lnTo>
                <a:cubicBezTo>
                  <a:pt x="10800" y="8055"/>
                  <a:pt x="16200" y="9536"/>
                  <a:pt x="21600" y="9536"/>
                </a:cubicBezTo>
                <a:cubicBezTo>
                  <a:pt x="16200" y="9536"/>
                  <a:pt x="10800" y="11017"/>
                  <a:pt x="10800" y="12498"/>
                </a:cubicBezTo>
                <a:lnTo>
                  <a:pt x="10800" y="18638"/>
                </a:lnTo>
                <a:cubicBezTo>
                  <a:pt x="10800" y="2011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133880" y="196380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24000" y="765000"/>
            <a:ext cx="188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组成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658880" y="744480"/>
            <a:ext cx="395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由溶质和溶剂组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66560" y="3121200"/>
            <a:ext cx="7777440" cy="4899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）溶质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被溶解的物质叫做溶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08000" y="5084640"/>
            <a:ext cx="5618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468360" y="4849920"/>
            <a:ext cx="7777080" cy="54468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溶液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i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溶质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+ </a:t>
            </a:r>
            <a:r>
              <a:rPr b="0" i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溶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466560" y="5694480"/>
            <a:ext cx="7777440" cy="61308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8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zh-CN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溶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≠</a:t>
            </a:r>
            <a:r>
              <a:rPr b="0" i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zh-CN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溶质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zh-CN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溶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01760" y="771480"/>
            <a:ext cx="791208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练习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烧杯中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毫升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C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，请比较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处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处密度的大小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&gt;  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B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 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&lt; 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 不能确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3887640" y="39355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47880" y="1482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2"/>
          <p:cNvPicPr/>
          <p:nvPr/>
        </p:nvPicPr>
        <p:blipFill>
          <a:blip r:embed="rId1"/>
          <a:stretch/>
        </p:blipFill>
        <p:spPr>
          <a:xfrm>
            <a:off x="6329520" y="1511280"/>
            <a:ext cx="2016000" cy="2160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404640" y="3749760"/>
            <a:ext cx="825984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练习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当水分不蒸发，温度不改变时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KNO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放置一年时间后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KNO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将（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会沉降下来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不会分离出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会浮上水面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不能确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048200" y="4481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00Z</dcterms:created>
  <dc:creator/>
  <dc:description/>
  <dc:language>en-US</dc:language>
  <cp:lastModifiedBy>Administrator</cp:lastModifiedBy>
  <dcterms:modified xsi:type="dcterms:W3CDTF">2019-01-07T09:24:16Z</dcterms:modified>
  <cp:revision>3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